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D91F-9D7C-4646-87F3-8C06BA41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5144-9986-43D1-B12D-081A2F3A7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0522-8A27-4B94-BE30-558179C23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A7B5-6C67-49A8-8D1A-F23AE3D1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D5B3-8E4E-4445-8300-71B5D6DE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D60C-65FC-4802-9C05-DA4EB016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C87F-AC1C-48A4-9BC2-AC73501F6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6DA6-9006-4468-9AE1-F93FA8B2E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00FD-64D4-4D4C-9046-4870AFB6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E8A6-FFDB-4B28-8867-E9C95BDB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B800-7F38-47DA-80E2-C27599AAC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49BA-B33D-4231-8E09-F190B69E2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CB9-B771-413A-AABE-6DA9F9CC5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978-D3A7-45B7-9EA9-EF6FF077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39F5-3B8C-4E7C-B3AB-358AB296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B015-2FE6-4821-AB02-B81E1B975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2FF6-8C87-460B-A9E1-A15C88FF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07B8-38C4-411A-8479-D4A73DD5B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5271-7117-405C-BE5A-B7908ECE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8CBE-99C4-4B40-8193-CD68E660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5D87-5941-472A-BB91-FA275252E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F53A-A6E7-41DF-8C10-00B0479E7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2E52-85D0-4D93-A1C8-2401E1FC1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97D8-2F3C-4079-860E-0A3D80BC9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C1E-C158-4AEE-8104-6707653A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DD2-F5BF-40CF-8C27-E8E2FE68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57C-0D47-4205-B096-F83C7225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40C-5CB1-4592-B0C2-D89757C5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2435-19F3-49AB-A579-1DB58291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5872-5EB7-4433-BDB1-C9B0AF1C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CDD-801F-4677-8FD2-88F6DD10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AFC0-46BC-4C1C-9C5E-FC3309AF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CD79-85FD-4D44-99EA-2CDC441D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E72E-D47C-4E81-B954-5B4C4367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5162-9F74-4F7E-AF1B-D35444C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78B-6615-45B6-BB02-71607D02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280C-2C0C-44CD-89D1-D457F2C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FA88-A227-4E5B-BB9D-5BFD244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8917-000E-40DD-BC1F-D1762DDB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D8F8-1882-4454-A80A-500B15B2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81A2-5E58-4F9D-A07A-9EC45710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E2A9-4876-4694-822C-5945F8B8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93B2-4E06-4B78-A6D4-3C20357F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C796-4226-4A2D-B3C0-0820EAD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F221-D6E7-430E-9153-2E0A6014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4F6C-9615-4499-A0C3-DB8946F5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8A8-C17E-4532-88F5-EBA0534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DB5E-C654-4F0C-8C7C-106F6A99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CB1E-596C-44AA-9FDB-47820F06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D995-B76F-486D-852A-4252985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8C0B-F374-4129-84C3-E0306424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7786-FBC7-4A38-8142-53C45718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6B4C-9C18-40C4-BAD5-BE3245CD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7094-413D-48FF-864B-1AE94D75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D83-D8EA-4EB5-A508-F0C94BDC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EFF-0639-438B-9969-3CDDF313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AF1-68DB-4069-83E6-AD3057D4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4BD-4E42-48A5-866E-0F85A30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38E-E482-443D-B827-57AD50E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C31-A3B3-4CC1-93D6-AF5C97A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3AEA-E345-49A6-AB16-415D2B693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5838-9932-46BF-8A10-C828FB8ACD4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99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FCC7-AE9E-4894-A06F-A412B9857D0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49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5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4" name="WordArt 2" descr=""/>
          <p:cNvPicPr/>
          <p:nvPr/>
        </p:nvPicPr>
        <p:blipFill>
          <a:blip r:embed="rId3"/>
          <a:stretch/>
        </p:blipFill>
        <p:spPr>
          <a:xfrm>
            <a:off x="1060560" y="1384200"/>
            <a:ext cx="7016760" cy="3651480"/>
          </a:xfrm>
          <a:prstGeom prst="rect">
            <a:avLst/>
          </a:prstGeom>
          <a:ln w="0">
            <a:noFill/>
          </a:ln>
        </p:spPr>
      </p:pic>
      <p:grpSp>
        <p:nvGrpSpPr>
          <p:cNvPr id="545" name="AutoShape 108"/>
          <p:cNvGrpSpPr/>
          <p:nvPr/>
        </p:nvGrpSpPr>
        <p:grpSpPr>
          <a:xfrm>
            <a:off x="438120" y="4784760"/>
            <a:ext cx="3232080" cy="1324080"/>
            <a:chOff x="438120" y="4784760"/>
            <a:chExt cx="3232080" cy="1324080"/>
          </a:xfrm>
        </p:grpSpPr>
        <p:pic>
          <p:nvPicPr>
            <p:cNvPr id="546" name="AutoShape 108" descr=""/>
            <p:cNvPicPr/>
            <p:nvPr/>
          </p:nvPicPr>
          <p:blipFill>
            <a:blip r:embed="rId4"/>
            <a:stretch/>
          </p:blipFill>
          <p:spPr>
            <a:xfrm>
              <a:off x="438120" y="4784760"/>
              <a:ext cx="3232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457200" y="4800600"/>
              <a:ext cx="32004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AutoShape 4"/>
          <p:cNvGrpSpPr/>
          <p:nvPr/>
        </p:nvGrpSpPr>
        <p:grpSpPr>
          <a:xfrm>
            <a:off x="5632560" y="146160"/>
            <a:ext cx="2755800" cy="1920600"/>
            <a:chOff x="5632560" y="146160"/>
            <a:chExt cx="2755800" cy="1920600"/>
          </a:xfrm>
        </p:grpSpPr>
        <p:pic>
          <p:nvPicPr>
            <p:cNvPr id="550" name="AutoShape 4" descr=""/>
            <p:cNvPicPr/>
            <p:nvPr/>
          </p:nvPicPr>
          <p:blipFill>
            <a:blip r:embed="rId2"/>
            <a:stretch/>
          </p:blipFill>
          <p:spPr>
            <a:xfrm>
              <a:off x="5632560" y="146160"/>
              <a:ext cx="275580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638680" y="152280"/>
              <a:ext cx="27432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What day was Christmas 2008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hursd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0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2-02T23:07:29Z</dcterms:modified>
  <cp:revision>38</cp:revision>
  <dc:subject/>
  <dc:title>Slide 1</dc:title>
</cp:coreProperties>
</file>